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419-8518-4366-81C3-3739D731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4AF-67C5-4E60-9D5E-27A483B3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288-E64B-4562-A943-F0586ED1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B1A-073C-4E8E-AD94-C6EDD122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E35-EE9E-4D7D-9204-E2D9568D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7BA-E005-4FE6-A4A8-1779DDA4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87E-5AC5-414A-80C9-38E35BEC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DC1-F30B-465F-A012-742BF3A0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D1A-91B7-43F1-8D82-0E7FB116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FEE-C6CF-4DCE-B923-3DBD5C92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A33-F8A6-4756-96A3-337BB299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90B-3052-4A4F-94CD-B86EA244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2F66-BA5B-4B35-84B5-F95458A8C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iantstars.de/" TargetMode="External"/><Relationship Id="rId2" Type="http://schemas.openxmlformats.org/officeDocument/2006/relationships/hyperlink" Target="http://www.yourwebsite.com.au/" TargetMode="External"/><Relationship Id="rId3" Type="http://schemas.openxmlformats.org/officeDocument/2006/relationships/hyperlink" Target="http://www.yourwebsite.com.au/deleted_page.html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71424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nk Building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714240" y="2357280"/>
            <a:ext cx="76438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jan Petrovic, Dir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nk Anatomy &amp; Flow of Link Ju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rdinary Links &amp; Strong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ound Diagonal Corner Rectangle 5"/>
          <p:cNvSpPr/>
          <p:nvPr/>
        </p:nvSpPr>
        <p:spPr>
          <a:xfrm>
            <a:off x="1571760" y="2571840"/>
            <a:ext cx="164304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ound Diagonal Corner Rectangle 6"/>
          <p:cNvSpPr/>
          <p:nvPr/>
        </p:nvSpPr>
        <p:spPr>
          <a:xfrm>
            <a:off x="6072120" y="2571840"/>
            <a:ext cx="164304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iped Right Arrow 9"/>
          <p:cNvSpPr/>
          <p:nvPr/>
        </p:nvSpPr>
        <p:spPr>
          <a:xfrm>
            <a:off x="3786120" y="2786040"/>
            <a:ext cx="1857600" cy="428760"/>
          </a:xfrm>
          <a:custGeom>
            <a:avLst/>
            <a:gdLst>
              <a:gd name="textAreaLeft" fmla="*/ 66960 w 1857600"/>
              <a:gd name="textAreaRight" fmla="*/ 1750680 w 185760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1857388" h="428628">
                <a:moveTo>
                  <a:pt x="0" y="107157"/>
                </a:moveTo>
                <a:lnTo>
                  <a:pt x="13395" y="107157"/>
                </a:lnTo>
                <a:lnTo>
                  <a:pt x="13395" y="321471"/>
                </a:lnTo>
                <a:lnTo>
                  <a:pt x="0" y="321471"/>
                </a:lnTo>
                <a:close/>
                <a:moveTo>
                  <a:pt x="26789" y="107157"/>
                </a:moveTo>
                <a:lnTo>
                  <a:pt x="53579" y="107157"/>
                </a:lnTo>
                <a:lnTo>
                  <a:pt x="53579" y="321471"/>
                </a:lnTo>
                <a:lnTo>
                  <a:pt x="26789" y="321471"/>
                </a:lnTo>
                <a:close/>
                <a:moveTo>
                  <a:pt x="66973" y="107157"/>
                </a:moveTo>
                <a:lnTo>
                  <a:pt x="1643074" y="107157"/>
                </a:lnTo>
                <a:lnTo>
                  <a:pt x="1643074" y="0"/>
                </a:lnTo>
                <a:lnTo>
                  <a:pt x="1857388" y="214314"/>
                </a:lnTo>
                <a:lnTo>
                  <a:pt x="1643074" y="428628"/>
                </a:lnTo>
                <a:lnTo>
                  <a:pt x="1643074" y="321471"/>
                </a:lnTo>
                <a:lnTo>
                  <a:pt x="66973" y="321471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ound Diagonal Corner Rectangle 7"/>
          <p:cNvSpPr/>
          <p:nvPr/>
        </p:nvSpPr>
        <p:spPr>
          <a:xfrm>
            <a:off x="1500120" y="4286160"/>
            <a:ext cx="2714760" cy="1143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iped Right Arrow 8"/>
          <p:cNvSpPr/>
          <p:nvPr/>
        </p:nvSpPr>
        <p:spPr>
          <a:xfrm rot="19395000">
            <a:off x="4286160" y="3693600"/>
            <a:ext cx="1838520" cy="714600"/>
          </a:xfrm>
          <a:custGeom>
            <a:avLst/>
            <a:gdLst>
              <a:gd name="textAreaLeft" fmla="*/ 111600 w 1838520"/>
              <a:gd name="textAreaRight" fmla="*/ 1659960 w 1838520"/>
              <a:gd name="textAreaTop" fmla="*/ 178560 h 714600"/>
              <a:gd name="textAreaBottom" fmla="*/ 536040 h 714600"/>
            </a:gdLst>
            <a:ahLst/>
            <a:rect l="textAreaLeft" t="textAreaTop" r="textAreaRight" b="textAreaBottom"/>
            <a:pathLst>
              <a:path w="1838850" h="714380">
                <a:moveTo>
                  <a:pt x="0" y="178595"/>
                </a:moveTo>
                <a:lnTo>
                  <a:pt x="22324" y="178595"/>
                </a:lnTo>
                <a:lnTo>
                  <a:pt x="22324" y="535785"/>
                </a:lnTo>
                <a:lnTo>
                  <a:pt x="0" y="535785"/>
                </a:lnTo>
                <a:close/>
                <a:moveTo>
                  <a:pt x="44649" y="178595"/>
                </a:moveTo>
                <a:lnTo>
                  <a:pt x="89298" y="178595"/>
                </a:lnTo>
                <a:lnTo>
                  <a:pt x="89298" y="535785"/>
                </a:lnTo>
                <a:lnTo>
                  <a:pt x="44649" y="535785"/>
                </a:lnTo>
                <a:close/>
                <a:moveTo>
                  <a:pt x="111622" y="178595"/>
                </a:moveTo>
                <a:lnTo>
                  <a:pt x="1481660" y="178595"/>
                </a:lnTo>
                <a:lnTo>
                  <a:pt x="1481660" y="0"/>
                </a:lnTo>
                <a:lnTo>
                  <a:pt x="1838850" y="357190"/>
                </a:lnTo>
                <a:lnTo>
                  <a:pt x="1481660" y="714380"/>
                </a:lnTo>
                <a:lnTo>
                  <a:pt x="1481660" y="535785"/>
                </a:lnTo>
                <a:lnTo>
                  <a:pt x="111622" y="535785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5-Point Star 10"/>
          <p:cNvSpPr/>
          <p:nvPr/>
        </p:nvSpPr>
        <p:spPr>
          <a:xfrm>
            <a:off x="2428920" y="2214720"/>
            <a:ext cx="285840" cy="28548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480"/>
              <a:gd name="textAreaBottom" fmla="*/ 218160 h 28548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5-Point Star 12"/>
          <p:cNvSpPr/>
          <p:nvPr/>
        </p:nvSpPr>
        <p:spPr>
          <a:xfrm>
            <a:off x="2714760" y="3929040"/>
            <a:ext cx="285480" cy="285840"/>
          </a:xfrm>
          <a:custGeom>
            <a:avLst/>
            <a:gdLst>
              <a:gd name="textAreaLeft" fmla="*/ 88200 w 285480"/>
              <a:gd name="textAreaRight" fmla="*/ 197280 w 28548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5-Point Star 13"/>
          <p:cNvSpPr/>
          <p:nvPr/>
        </p:nvSpPr>
        <p:spPr>
          <a:xfrm>
            <a:off x="2357280" y="392904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5-Point Star 14"/>
          <p:cNvSpPr/>
          <p:nvPr/>
        </p:nvSpPr>
        <p:spPr>
          <a:xfrm>
            <a:off x="3429000" y="392904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5-Point Star 15"/>
          <p:cNvSpPr/>
          <p:nvPr/>
        </p:nvSpPr>
        <p:spPr>
          <a:xfrm>
            <a:off x="3071880" y="392904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5-Point Star 16"/>
          <p:cNvSpPr/>
          <p:nvPr/>
        </p:nvSpPr>
        <p:spPr>
          <a:xfrm>
            <a:off x="2071800" y="2214720"/>
            <a:ext cx="285480" cy="285480"/>
          </a:xfrm>
          <a:custGeom>
            <a:avLst/>
            <a:gdLst>
              <a:gd name="textAreaLeft" fmla="*/ 88200 w 285480"/>
              <a:gd name="textAreaRight" fmla="*/ 197280 w 285480"/>
              <a:gd name="textAreaTop" fmla="*/ 109080 h 285480"/>
              <a:gd name="textAreaBottom" fmla="*/ 218160 h 28548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5-Point Star 17"/>
          <p:cNvSpPr/>
          <p:nvPr/>
        </p:nvSpPr>
        <p:spPr>
          <a:xfrm>
            <a:off x="2000160" y="392904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5-Point Star 18"/>
          <p:cNvSpPr/>
          <p:nvPr/>
        </p:nvSpPr>
        <p:spPr>
          <a:xfrm>
            <a:off x="6715080" y="214308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5-Point Star 19"/>
          <p:cNvSpPr/>
          <p:nvPr/>
        </p:nvSpPr>
        <p:spPr>
          <a:xfrm>
            <a:off x="6572160" y="357192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5-Point Star 20"/>
          <p:cNvSpPr/>
          <p:nvPr/>
        </p:nvSpPr>
        <p:spPr>
          <a:xfrm>
            <a:off x="6215040" y="357192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5-Point Star 21"/>
          <p:cNvSpPr/>
          <p:nvPr/>
        </p:nvSpPr>
        <p:spPr>
          <a:xfrm>
            <a:off x="7286760" y="3571920"/>
            <a:ext cx="285480" cy="285840"/>
          </a:xfrm>
          <a:custGeom>
            <a:avLst/>
            <a:gdLst>
              <a:gd name="textAreaLeft" fmla="*/ 88200 w 285480"/>
              <a:gd name="textAreaRight" fmla="*/ 197280 w 28548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5-Point Star 22"/>
          <p:cNvSpPr/>
          <p:nvPr/>
        </p:nvSpPr>
        <p:spPr>
          <a:xfrm>
            <a:off x="6929280" y="357192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nk Anatomy &amp; Flow of Link Ju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umber of outgoing links affects the link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ound Diagonal Corner Rectangle 5"/>
          <p:cNvSpPr/>
          <p:nvPr/>
        </p:nvSpPr>
        <p:spPr>
          <a:xfrm>
            <a:off x="1500120" y="2571840"/>
            <a:ext cx="164304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 Diagonal Corner Rectangle 6"/>
          <p:cNvSpPr/>
          <p:nvPr/>
        </p:nvSpPr>
        <p:spPr>
          <a:xfrm>
            <a:off x="5786280" y="1714680"/>
            <a:ext cx="164340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iped Right Arrow 9"/>
          <p:cNvSpPr/>
          <p:nvPr/>
        </p:nvSpPr>
        <p:spPr>
          <a:xfrm>
            <a:off x="3500280" y="2000160"/>
            <a:ext cx="1857600" cy="428760"/>
          </a:xfrm>
          <a:custGeom>
            <a:avLst/>
            <a:gdLst>
              <a:gd name="textAreaLeft" fmla="*/ 66960 w 1857600"/>
              <a:gd name="textAreaRight" fmla="*/ 1750680 w 185760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1857388" h="428628">
                <a:moveTo>
                  <a:pt x="0" y="107157"/>
                </a:moveTo>
                <a:lnTo>
                  <a:pt x="13395" y="107157"/>
                </a:lnTo>
                <a:lnTo>
                  <a:pt x="13395" y="321471"/>
                </a:lnTo>
                <a:lnTo>
                  <a:pt x="0" y="321471"/>
                </a:lnTo>
                <a:close/>
                <a:moveTo>
                  <a:pt x="26789" y="107157"/>
                </a:moveTo>
                <a:lnTo>
                  <a:pt x="53579" y="107157"/>
                </a:lnTo>
                <a:lnTo>
                  <a:pt x="53579" y="321471"/>
                </a:lnTo>
                <a:lnTo>
                  <a:pt x="26789" y="321471"/>
                </a:lnTo>
                <a:close/>
                <a:moveTo>
                  <a:pt x="66973" y="107157"/>
                </a:moveTo>
                <a:lnTo>
                  <a:pt x="1643074" y="107157"/>
                </a:lnTo>
                <a:lnTo>
                  <a:pt x="1643074" y="0"/>
                </a:lnTo>
                <a:lnTo>
                  <a:pt x="1857388" y="214314"/>
                </a:lnTo>
                <a:lnTo>
                  <a:pt x="1643074" y="428628"/>
                </a:lnTo>
                <a:lnTo>
                  <a:pt x="1643074" y="321471"/>
                </a:lnTo>
                <a:lnTo>
                  <a:pt x="66973" y="321471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iped Right Arrow 8"/>
          <p:cNvSpPr/>
          <p:nvPr/>
        </p:nvSpPr>
        <p:spPr>
          <a:xfrm>
            <a:off x="3500280" y="2571840"/>
            <a:ext cx="1857600" cy="428400"/>
          </a:xfrm>
          <a:custGeom>
            <a:avLst/>
            <a:gdLst>
              <a:gd name="textAreaLeft" fmla="*/ 66960 w 1857600"/>
              <a:gd name="textAreaRight" fmla="*/ 1750680 w 185760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1857388" h="428628">
                <a:moveTo>
                  <a:pt x="0" y="107157"/>
                </a:moveTo>
                <a:lnTo>
                  <a:pt x="13395" y="107157"/>
                </a:lnTo>
                <a:lnTo>
                  <a:pt x="13395" y="321471"/>
                </a:lnTo>
                <a:lnTo>
                  <a:pt x="0" y="321471"/>
                </a:lnTo>
                <a:close/>
                <a:moveTo>
                  <a:pt x="26789" y="107157"/>
                </a:moveTo>
                <a:lnTo>
                  <a:pt x="53579" y="107157"/>
                </a:lnTo>
                <a:lnTo>
                  <a:pt x="53579" y="321471"/>
                </a:lnTo>
                <a:lnTo>
                  <a:pt x="26789" y="321471"/>
                </a:lnTo>
                <a:close/>
                <a:moveTo>
                  <a:pt x="66973" y="107157"/>
                </a:moveTo>
                <a:lnTo>
                  <a:pt x="1643074" y="107157"/>
                </a:lnTo>
                <a:lnTo>
                  <a:pt x="1643074" y="0"/>
                </a:lnTo>
                <a:lnTo>
                  <a:pt x="1857388" y="214314"/>
                </a:lnTo>
                <a:lnTo>
                  <a:pt x="1643074" y="428628"/>
                </a:lnTo>
                <a:lnTo>
                  <a:pt x="1643074" y="321471"/>
                </a:lnTo>
                <a:lnTo>
                  <a:pt x="66973" y="321471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iped Right Arrow 10"/>
          <p:cNvSpPr/>
          <p:nvPr/>
        </p:nvSpPr>
        <p:spPr>
          <a:xfrm>
            <a:off x="3500280" y="3143160"/>
            <a:ext cx="1857600" cy="428760"/>
          </a:xfrm>
          <a:custGeom>
            <a:avLst/>
            <a:gdLst>
              <a:gd name="textAreaLeft" fmla="*/ 66960 w 1857600"/>
              <a:gd name="textAreaRight" fmla="*/ 1750680 w 185760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1857388" h="428628">
                <a:moveTo>
                  <a:pt x="0" y="107157"/>
                </a:moveTo>
                <a:lnTo>
                  <a:pt x="13395" y="107157"/>
                </a:lnTo>
                <a:lnTo>
                  <a:pt x="13395" y="321471"/>
                </a:lnTo>
                <a:lnTo>
                  <a:pt x="0" y="321471"/>
                </a:lnTo>
                <a:close/>
                <a:moveTo>
                  <a:pt x="26789" y="107157"/>
                </a:moveTo>
                <a:lnTo>
                  <a:pt x="53579" y="107157"/>
                </a:lnTo>
                <a:lnTo>
                  <a:pt x="53579" y="321471"/>
                </a:lnTo>
                <a:lnTo>
                  <a:pt x="26789" y="321471"/>
                </a:lnTo>
                <a:close/>
                <a:moveTo>
                  <a:pt x="66973" y="107157"/>
                </a:moveTo>
                <a:lnTo>
                  <a:pt x="1643074" y="107157"/>
                </a:lnTo>
                <a:lnTo>
                  <a:pt x="1643074" y="0"/>
                </a:lnTo>
                <a:lnTo>
                  <a:pt x="1857388" y="214314"/>
                </a:lnTo>
                <a:lnTo>
                  <a:pt x="1643074" y="428628"/>
                </a:lnTo>
                <a:lnTo>
                  <a:pt x="1643074" y="321471"/>
                </a:lnTo>
                <a:lnTo>
                  <a:pt x="66973" y="321471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iped Right Arrow 11"/>
          <p:cNvSpPr/>
          <p:nvPr/>
        </p:nvSpPr>
        <p:spPr>
          <a:xfrm>
            <a:off x="3500280" y="3714840"/>
            <a:ext cx="1857600" cy="428400"/>
          </a:xfrm>
          <a:custGeom>
            <a:avLst/>
            <a:gdLst>
              <a:gd name="textAreaLeft" fmla="*/ 66960 w 1857600"/>
              <a:gd name="textAreaRight" fmla="*/ 1750680 w 185760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1857388" h="428628">
                <a:moveTo>
                  <a:pt x="0" y="107157"/>
                </a:moveTo>
                <a:lnTo>
                  <a:pt x="13395" y="107157"/>
                </a:lnTo>
                <a:lnTo>
                  <a:pt x="13395" y="321471"/>
                </a:lnTo>
                <a:lnTo>
                  <a:pt x="0" y="321471"/>
                </a:lnTo>
                <a:close/>
                <a:moveTo>
                  <a:pt x="26789" y="107157"/>
                </a:moveTo>
                <a:lnTo>
                  <a:pt x="53579" y="107157"/>
                </a:lnTo>
                <a:lnTo>
                  <a:pt x="53579" y="321471"/>
                </a:lnTo>
                <a:lnTo>
                  <a:pt x="26789" y="321471"/>
                </a:lnTo>
                <a:close/>
                <a:moveTo>
                  <a:pt x="66973" y="107157"/>
                </a:moveTo>
                <a:lnTo>
                  <a:pt x="1643074" y="107157"/>
                </a:lnTo>
                <a:lnTo>
                  <a:pt x="1643074" y="0"/>
                </a:lnTo>
                <a:lnTo>
                  <a:pt x="1857388" y="214314"/>
                </a:lnTo>
                <a:lnTo>
                  <a:pt x="1643074" y="428628"/>
                </a:lnTo>
                <a:lnTo>
                  <a:pt x="1643074" y="321471"/>
                </a:lnTo>
                <a:lnTo>
                  <a:pt x="66973" y="321471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ound Diagonal Corner Rectangle 12"/>
          <p:cNvSpPr/>
          <p:nvPr/>
        </p:nvSpPr>
        <p:spPr>
          <a:xfrm>
            <a:off x="5786280" y="2286000"/>
            <a:ext cx="164340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 Diagonal Corner Rectangle 13"/>
          <p:cNvSpPr/>
          <p:nvPr/>
        </p:nvSpPr>
        <p:spPr>
          <a:xfrm>
            <a:off x="5786280" y="2857680"/>
            <a:ext cx="164340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ound Diagonal Corner Rectangle 14"/>
          <p:cNvSpPr/>
          <p:nvPr/>
        </p:nvSpPr>
        <p:spPr>
          <a:xfrm>
            <a:off x="5786280" y="3429000"/>
            <a:ext cx="164340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5-Point Star 15"/>
          <p:cNvSpPr/>
          <p:nvPr/>
        </p:nvSpPr>
        <p:spPr>
          <a:xfrm>
            <a:off x="2000160" y="214308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5-Point Star 16"/>
          <p:cNvSpPr/>
          <p:nvPr/>
        </p:nvSpPr>
        <p:spPr>
          <a:xfrm>
            <a:off x="1643040" y="214308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5-Point Star 17"/>
          <p:cNvSpPr/>
          <p:nvPr/>
        </p:nvSpPr>
        <p:spPr>
          <a:xfrm>
            <a:off x="2714760" y="2143080"/>
            <a:ext cx="285480" cy="285840"/>
          </a:xfrm>
          <a:custGeom>
            <a:avLst/>
            <a:gdLst>
              <a:gd name="textAreaLeft" fmla="*/ 88200 w 285480"/>
              <a:gd name="textAreaRight" fmla="*/ 197280 w 28548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5-Point Star 18"/>
          <p:cNvSpPr/>
          <p:nvPr/>
        </p:nvSpPr>
        <p:spPr>
          <a:xfrm>
            <a:off x="2357280" y="214308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5-Point Star 19"/>
          <p:cNvSpPr/>
          <p:nvPr/>
        </p:nvSpPr>
        <p:spPr>
          <a:xfrm>
            <a:off x="7572240" y="185724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5-Point Star 20"/>
          <p:cNvSpPr/>
          <p:nvPr/>
        </p:nvSpPr>
        <p:spPr>
          <a:xfrm>
            <a:off x="7572240" y="242892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5-Point Star 21"/>
          <p:cNvSpPr/>
          <p:nvPr/>
        </p:nvSpPr>
        <p:spPr>
          <a:xfrm>
            <a:off x="7572240" y="300024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5-Point Star 22"/>
          <p:cNvSpPr/>
          <p:nvPr/>
        </p:nvSpPr>
        <p:spPr>
          <a:xfrm>
            <a:off x="7572240" y="3643200"/>
            <a:ext cx="285840" cy="285840"/>
          </a:xfrm>
          <a:custGeom>
            <a:avLst/>
            <a:gdLst>
              <a:gd name="textAreaLeft" fmla="*/ 88200 w 285840"/>
              <a:gd name="textAreaRight" fmla="*/ 197640 w 28584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285752" h="285752">
                <a:moveTo>
                  <a:pt x="0" y="109147"/>
                </a:moveTo>
                <a:lnTo>
                  <a:pt x="109148" y="109148"/>
                </a:lnTo>
                <a:lnTo>
                  <a:pt x="142876" y="0"/>
                </a:lnTo>
                <a:lnTo>
                  <a:pt x="176604" y="109148"/>
                </a:lnTo>
                <a:lnTo>
                  <a:pt x="285752" y="109147"/>
                </a:lnTo>
                <a:lnTo>
                  <a:pt x="197449" y="176604"/>
                </a:lnTo>
                <a:lnTo>
                  <a:pt x="231178" y="285751"/>
                </a:lnTo>
                <a:lnTo>
                  <a:pt x="142876" y="218294"/>
                </a:lnTo>
                <a:lnTo>
                  <a:pt x="54574" y="285751"/>
                </a:lnTo>
                <a:lnTo>
                  <a:pt x="88303" y="176604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nk Anatomy &amp; Flow of Link Ju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&lt;a </a:t>
            </a: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rel=“nofollow”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ref=“http://site.com”&gt;anchor text&lt;/a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ofollow = No trust = No v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TA, robots.txt, l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 Diagonal Corner Rectangle 5"/>
          <p:cNvSpPr/>
          <p:nvPr/>
        </p:nvSpPr>
        <p:spPr>
          <a:xfrm>
            <a:off x="1571760" y="2571840"/>
            <a:ext cx="164304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 Diagonal Corner Rectangle 6"/>
          <p:cNvSpPr/>
          <p:nvPr/>
        </p:nvSpPr>
        <p:spPr>
          <a:xfrm>
            <a:off x="6072120" y="2571840"/>
            <a:ext cx="164304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iped Right Arrow 9"/>
          <p:cNvSpPr/>
          <p:nvPr/>
        </p:nvSpPr>
        <p:spPr>
          <a:xfrm>
            <a:off x="3786120" y="2786040"/>
            <a:ext cx="1857600" cy="428760"/>
          </a:xfrm>
          <a:custGeom>
            <a:avLst/>
            <a:gdLst>
              <a:gd name="textAreaLeft" fmla="*/ 66960 w 1857600"/>
              <a:gd name="textAreaRight" fmla="*/ 1750680 w 185760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1857388" h="428628">
                <a:moveTo>
                  <a:pt x="0" y="107157"/>
                </a:moveTo>
                <a:lnTo>
                  <a:pt x="13395" y="107157"/>
                </a:lnTo>
                <a:lnTo>
                  <a:pt x="13395" y="321471"/>
                </a:lnTo>
                <a:lnTo>
                  <a:pt x="0" y="321471"/>
                </a:lnTo>
                <a:close/>
                <a:moveTo>
                  <a:pt x="26789" y="107157"/>
                </a:moveTo>
                <a:lnTo>
                  <a:pt x="53579" y="107157"/>
                </a:lnTo>
                <a:lnTo>
                  <a:pt x="53579" y="321471"/>
                </a:lnTo>
                <a:lnTo>
                  <a:pt x="26789" y="321471"/>
                </a:lnTo>
                <a:close/>
                <a:moveTo>
                  <a:pt x="66973" y="107157"/>
                </a:moveTo>
                <a:lnTo>
                  <a:pt x="1643074" y="107157"/>
                </a:lnTo>
                <a:lnTo>
                  <a:pt x="1643074" y="0"/>
                </a:lnTo>
                <a:lnTo>
                  <a:pt x="1857388" y="214314"/>
                </a:lnTo>
                <a:lnTo>
                  <a:pt x="1643074" y="428628"/>
                </a:lnTo>
                <a:lnTo>
                  <a:pt x="1643074" y="321471"/>
                </a:lnTo>
                <a:lnTo>
                  <a:pt x="66973" y="321471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&quot;No&quot; Symbol 7"/>
          <p:cNvSpPr/>
          <p:nvPr/>
        </p:nvSpPr>
        <p:spPr>
          <a:xfrm>
            <a:off x="4286160" y="2571840"/>
            <a:ext cx="785880" cy="785880"/>
          </a:xfrm>
          <a:custGeom>
            <a:avLst/>
            <a:gdLst>
              <a:gd name="textAreaLeft" fmla="*/ 114840 w 785880"/>
              <a:gd name="textAreaRight" fmla="*/ 671040 w 785880"/>
              <a:gd name="textAreaTop" fmla="*/ 114840 h 785880"/>
              <a:gd name="textAreaBottom" fmla="*/ 671040 h 785880"/>
            </a:gdLst>
            <a:ahLst/>
            <a:rect l="textAreaLeft" t="textAreaTop" r="textAreaRight" b="textAreaBottom"/>
            <a:pathLst>
              <a:path w="785818" h="785818">
                <a:moveTo>
                  <a:pt x="0" y="392909"/>
                </a:moveTo>
                <a:lnTo>
                  <a:pt x="0" y="392909"/>
                </a:lnTo>
                <a:arcTo wR="392909" hR="392909" stAng="10800000" swAng="5400009"/>
                <a:lnTo>
                  <a:pt x="392910" y="0"/>
                </a:lnTo>
                <a:arcTo wR="392909" hR="392909" stAng="-5400000" swAng="5400009"/>
                <a:lnTo>
                  <a:pt x="785819" y="392910"/>
                </a:lnTo>
                <a:arcTo wR="392909" hR="392909" stAng="0" swAng="5400000"/>
                <a:lnTo>
                  <a:pt x="392910" y="785819"/>
                </a:lnTo>
                <a:arcTo wR="392909" hR="392909" stAng="5400000" swAng="5400000"/>
                <a:close/>
                <a:moveTo>
                  <a:pt x="609125" y="509333"/>
                </a:moveTo>
                <a:lnTo>
                  <a:pt x="609125" y="509333"/>
                </a:lnTo>
                <a:arcTo wR="245568" hR="245568" stAng="1698045" swAng="-8796097"/>
                <a:close/>
                <a:moveTo>
                  <a:pt x="176693" y="276485"/>
                </a:moveTo>
                <a:lnTo>
                  <a:pt x="176693" y="276485"/>
                </a:lnTo>
                <a:arcTo wR="245568" hR="245568" stAng="-9101967" swAng="-8796078"/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get good lin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arn more about your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existing link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Google Webmaster Too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Your website on the w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inks to your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alyse anchor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get lin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109" name="Frame 3"/>
          <p:cNvSpPr/>
          <p:nvPr/>
        </p:nvSpPr>
        <p:spPr>
          <a:xfrm>
            <a:off x="1928880" y="1928880"/>
            <a:ext cx="7215120" cy="3857400"/>
          </a:xfrm>
          <a:custGeom>
            <a:avLst/>
            <a:gdLst>
              <a:gd name="textAreaLeft" fmla="*/ 84240 w 7215120"/>
              <a:gd name="textAreaRight" fmla="*/ 7130880 w 7215120"/>
              <a:gd name="textAreaTop" fmla="*/ 84240 h 3857400"/>
              <a:gd name="textAreaBottom" fmla="*/ 3773160 h 3857400"/>
            </a:gdLst>
            <a:ahLst/>
            <a:rect l="textAreaLeft" t="textAreaTop" r="textAreaRight" b="textAreaBottom"/>
            <a:pathLst>
              <a:path w="7215206" h="3857652">
                <a:moveTo>
                  <a:pt x="0" y="0"/>
                </a:moveTo>
                <a:lnTo>
                  <a:pt x="7215206" y="0"/>
                </a:lnTo>
                <a:lnTo>
                  <a:pt x="7215206" y="3857652"/>
                </a:lnTo>
                <a:lnTo>
                  <a:pt x="0" y="3857652"/>
                </a:lnTo>
                <a:close/>
                <a:moveTo>
                  <a:pt x="84290" y="84290"/>
                </a:moveTo>
                <a:lnTo>
                  <a:pt x="84290" y="3773362"/>
                </a:lnTo>
                <a:lnTo>
                  <a:pt x="7130916" y="3773362"/>
                </a:lnTo>
                <a:lnTo>
                  <a:pt x="7130916" y="84290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990720" y="1195560"/>
            <a:ext cx="7162560" cy="4466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our Current 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Callout 5"/>
          <p:cNvSpPr/>
          <p:nvPr/>
        </p:nvSpPr>
        <p:spPr>
          <a:xfrm>
            <a:off x="3429000" y="1643040"/>
            <a:ext cx="1571760" cy="846000"/>
          </a:xfrm>
          <a:prstGeom prst="wedgeEllipseCallout">
            <a:avLst>
              <a:gd name="adj1" fmla="val -112337"/>
              <a:gd name="adj2" fmla="val -75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Oh, nic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114" name="Frame 2"/>
          <p:cNvSpPr/>
          <p:nvPr/>
        </p:nvSpPr>
        <p:spPr>
          <a:xfrm>
            <a:off x="3286080" y="1143000"/>
            <a:ext cx="1285920" cy="642960"/>
          </a:xfrm>
          <a:custGeom>
            <a:avLst/>
            <a:gdLst>
              <a:gd name="textAreaLeft" fmla="*/ 80280 w 1285920"/>
              <a:gd name="textAreaRight" fmla="*/ 1205640 w 1285920"/>
              <a:gd name="textAreaTop" fmla="*/ 80280 h 642960"/>
              <a:gd name="textAreaBottom" fmla="*/ 562680 h 642960"/>
            </a:gdLst>
            <a:ahLst/>
            <a:rect l="textAreaLeft" t="textAreaTop" r="textAreaRight" b="textAreaBottom"/>
            <a:pathLst>
              <a:path w="1285884" h="642942">
                <a:moveTo>
                  <a:pt x="0" y="0"/>
                </a:moveTo>
                <a:lnTo>
                  <a:pt x="1285884" y="0"/>
                </a:lnTo>
                <a:lnTo>
                  <a:pt x="1285884" y="642942"/>
                </a:lnTo>
                <a:lnTo>
                  <a:pt x="0" y="642942"/>
                </a:lnTo>
                <a:close/>
                <a:moveTo>
                  <a:pt x="80368" y="80368"/>
                </a:moveTo>
                <a:lnTo>
                  <a:pt x="80368" y="562574"/>
                </a:lnTo>
                <a:lnTo>
                  <a:pt x="1205516" y="562574"/>
                </a:lnTo>
                <a:lnTo>
                  <a:pt x="1205516" y="80368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did these people link to 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0040" y="1928880"/>
            <a:ext cx="8229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alyse and understand your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iscover most linked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new link opportunities and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orm new partnerships and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x wrong links (more about that later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 links to my competitor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0040" y="149976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ahoo &amp; Goo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link:http://www.mycompetitor.com.a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dvanced Tools (example: seomoz.org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iscover new link opportunitie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nderstand your competitor’s str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lf-Generating 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Link to us” pag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Encourage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linking to your s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ake control of 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people link to y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Make it 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easy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for people to do so.</a:t>
            </a:r>
            <a:br>
              <a:rPr sz="2200"/>
            </a:b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Social media sharing within content</a:t>
            </a:r>
            <a:br>
              <a:rPr sz="2600"/>
            </a:b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Useful Tools / Templates / Resources</a:t>
            </a:r>
            <a:br>
              <a:rPr sz="2600"/>
            </a:b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Link Bait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Example: Steps on how to do up your t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Calibri"/>
              </a:rPr>
              <a:t>G’day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Sir/Madam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’re an SEO company from 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[you know where]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an get your website on the first page of Google for….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Manual Directory Submission Serv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rticle Writing and Article Submission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Blog Comment Posting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al Network Book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Forum Postings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7f7f7f"/>
                </a:solidFill>
                <a:latin typeface="Calibri"/>
              </a:rPr>
              <a:t>And other useless rubbish…</a:t>
            </a:r>
            <a:br>
              <a:rPr sz="2400"/>
            </a:br>
            <a:r>
              <a:rPr b="1" i="1" lang="en-AU" sz="24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asy Link Buil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irectories (DMOZ, Yahoo, BOT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 &amp; Article Hosting (PR Web, Ezine Artic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Join Industry Associations &amp; Memberships (AM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ofile Pages (Linked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logging &amp; Social Media Participation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i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Unique content on each new resou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2000 directories, how good can they b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nk Building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Non-competing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busin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Lawyer in Sydney &amp; Lawyer in Melbour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Hotel booking &amp; Tour guid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Hosted content or functionalit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Avoid </a:t>
            </a:r>
            <a:r>
              <a:rPr b="1" lang="en-AU" sz="1700" spc="-1" strike="noStrike">
                <a:solidFill>
                  <a:srgbClr val="000000"/>
                </a:solidFill>
                <a:latin typeface="Calibri"/>
              </a:rPr>
              <a:t>links_9.html</a:t>
            </a: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AU" sz="1700" spc="-1" strike="noStrike">
                <a:solidFill>
                  <a:srgbClr val="000000"/>
                </a:solidFill>
                <a:latin typeface="Calibri"/>
              </a:rPr>
              <a:t>resources_020.php</a:t>
            </a: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 pages (spam!)</a:t>
            </a:r>
            <a:br>
              <a:rPr sz="1700"/>
            </a:br>
            <a:r>
              <a:rPr b="0" lang="en-AU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Business 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partners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allia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roduct or service 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Web design company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(portfolio pag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Your 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office space / building complex</a:t>
            </a:r>
            <a:br>
              <a:rPr sz="2200"/>
            </a:b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alibri"/>
              </a:rPr>
              <a:t>Incentivise: Offer </a:t>
            </a:r>
            <a:r>
              <a:rPr b="1" lang="en-AU" sz="1900" spc="-1" strike="noStrike">
                <a:solidFill>
                  <a:srgbClr val="000000"/>
                </a:solidFill>
                <a:latin typeface="Calibri"/>
              </a:rPr>
              <a:t>discount</a:t>
            </a:r>
            <a:r>
              <a:rPr b="0" lang="en-AU" sz="1900" spc="-1" strike="noStrike">
                <a:solidFill>
                  <a:srgbClr val="000000"/>
                </a:solidFill>
                <a:latin typeface="Calibri"/>
              </a:rPr>
              <a:t> and extras to linking custom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alibri"/>
              </a:rPr>
              <a:t>Share: Customers like to </a:t>
            </a:r>
            <a:r>
              <a:rPr b="1" lang="en-AU" sz="1900" spc="-1" strike="noStrike">
                <a:solidFill>
                  <a:srgbClr val="000000"/>
                </a:solidFill>
                <a:latin typeface="Calibri"/>
              </a:rPr>
              <a:t>brag</a:t>
            </a:r>
            <a:r>
              <a:rPr b="0" lang="en-AU" sz="1900" spc="-1" strike="noStrike">
                <a:solidFill>
                  <a:srgbClr val="000000"/>
                </a:solidFill>
                <a:latin typeface="Calibri"/>
              </a:rPr>
              <a:t> about recently purchased produc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alibri"/>
              </a:rPr>
              <a:t>Celebrate: Happy customer </a:t>
            </a:r>
            <a:r>
              <a:rPr b="1" lang="en-AU" sz="1900" spc="-1" strike="noStrike">
                <a:solidFill>
                  <a:srgbClr val="000000"/>
                </a:solidFill>
                <a:latin typeface="Calibri"/>
              </a:rPr>
              <a:t>testimonial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Link Building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ositive Reviews, Feedback and Testimonials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clude someone’s research in your conten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tell them about it (Example: </a:t>
            </a: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GiantStars.de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correct links or no links on brand and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lick here”, “read more” (should be “main phrase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rwebsite.com.au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and yourwebsite.com.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yourwebsite.com.au/deleted_page.html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reative Link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Business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ncourages customers to link back to their li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rovides easy to copy link code to do 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Currency Exchange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rovides real-time currency graph wid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ustomers embed code in blo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ally: Theory in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umber of Links: 2000. No impro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mpetitor links: 20-100 in aver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ew links: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ime: 3 mon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osition: #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Conclusion: Link Quality, Trust &amp; Relev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me’s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Calibri"/>
              </a:rPr>
              <a:t>Any 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Presentation by Dejan Petrov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www.dejan.com.a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Calibri"/>
              </a:rPr>
              <a:t>G’day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Sir/Madam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’re an SEO company from 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[you know where]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an get your website on the first page of Google for….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Manual Directory Submission Serv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Article Writing and Article Submission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Blog Comment Posting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al Network Book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Forum Postings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7f7f7f"/>
                </a:solidFill>
                <a:latin typeface="Calibri"/>
              </a:rPr>
              <a:t>And other useless rubbish…</a:t>
            </a:r>
            <a:br>
              <a:rPr sz="2400"/>
            </a:br>
            <a:r>
              <a:rPr b="1" i="1" lang="en-AU" sz="24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&quot;No&quot; Symbol 3"/>
          <p:cNvSpPr/>
          <p:nvPr/>
        </p:nvSpPr>
        <p:spPr>
          <a:xfrm>
            <a:off x="1643040" y="571680"/>
            <a:ext cx="5500800" cy="5500440"/>
          </a:xfrm>
          <a:custGeom>
            <a:avLst/>
            <a:gdLst>
              <a:gd name="textAreaLeft" fmla="*/ 805320 w 5500800"/>
              <a:gd name="textAreaRight" fmla="*/ 4695480 w 5500800"/>
              <a:gd name="textAreaTop" fmla="*/ 805320 h 5500440"/>
              <a:gd name="textAreaBottom" fmla="*/ 4695120 h 5500440"/>
            </a:gdLst>
            <a:ahLst/>
            <a:rect l="textAreaLeft" t="textAreaTop" r="textAreaRight" b="textAreaBottom"/>
            <a:pathLst>
              <a:path w="5500726" h="5500726">
                <a:moveTo>
                  <a:pt x="0" y="2750363"/>
                </a:moveTo>
                <a:lnTo>
                  <a:pt x="0" y="2750363"/>
                </a:lnTo>
                <a:arcTo wR="2750363" hR="2750363" stAng="-10799996" swAng="5400002"/>
                <a:lnTo>
                  <a:pt x="2750368" y="3"/>
                </a:lnTo>
                <a:arcTo wR="2750363" hR="2750363" stAng="-5399996" swAng="5400002"/>
                <a:lnTo>
                  <a:pt x="5500728" y="2750371"/>
                </a:lnTo>
                <a:arcTo wR="2750363" hR="2750363" stAng="0" swAng="5400002"/>
                <a:lnTo>
                  <a:pt x="2750363" y="5500734"/>
                </a:lnTo>
                <a:arcTo wR="2750363" hR="2750363" stAng="5400002" swAng="5400001"/>
                <a:close/>
                <a:moveTo>
                  <a:pt x="4542987" y="4253548"/>
                </a:moveTo>
                <a:lnTo>
                  <a:pt x="4542987" y="4253548"/>
                </a:lnTo>
                <a:arcTo wR="2339459" hR="2339459" stAng="2398868" swAng="-10197739"/>
                <a:close/>
                <a:moveTo>
                  <a:pt x="957739" y="1247178"/>
                </a:moveTo>
                <a:lnTo>
                  <a:pt x="957739" y="1247178"/>
                </a:lnTo>
                <a:arcTo wR="2339459" hR="2339459" stAng="-8401136" swAng="-10197741"/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t’s all about link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520" y="2928600"/>
            <a:ext cx="76438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Ranking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How to get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Link building id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nking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Rele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earch for 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cars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brings </a:t>
            </a: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car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related websites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Impor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 to sort all 1,000,000,000 car websit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nking Factors: Relev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echnical Asp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 search engines “read” your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ccess, navigation, text, images, flash, frames, image description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 search engines “interpret” your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riting language, use of phrases, industry jargon, phrase research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nking Factors: Impor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Reputation &amp; Tr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o links to your si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Your friend’s Facebook profile VS Stanford Particle Accelerator La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ow others link to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ntent type, link type (anchor text), site topic and relev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links should I g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et links from reputable and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rusted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websites that are in some way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associated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with your activities or where linking seems appropriate and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relevant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Examples of trusted doma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putable businesses, Universities, Schools, Associations, Organisations, Gover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nk Anatomy &amp; Flow of Link Ju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&lt;a href=“http://site.com”&gt;</a:t>
            </a:r>
            <a:r>
              <a:rPr b="1" lang="en-AU" sz="3200" spc="-1" strike="noStrike">
                <a:solidFill>
                  <a:srgbClr val="002060"/>
                </a:solidFill>
                <a:latin typeface="Calibri"/>
              </a:rPr>
              <a:t>anchor text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&lt;/a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nk = Vote (PageRank, Link Jui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ink Voting = Non-egalitarian vot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chor Text = Target Link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 Diagonal Corner Rectangle 5"/>
          <p:cNvSpPr/>
          <p:nvPr/>
        </p:nvSpPr>
        <p:spPr>
          <a:xfrm>
            <a:off x="1571760" y="2571840"/>
            <a:ext cx="164304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ound Diagonal Corner Rectangle 6"/>
          <p:cNvSpPr/>
          <p:nvPr/>
        </p:nvSpPr>
        <p:spPr>
          <a:xfrm>
            <a:off x="6072120" y="2571840"/>
            <a:ext cx="1643040" cy="8571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Calibri"/>
              </a:rPr>
              <a:t>SITE 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iped Right Arrow 9"/>
          <p:cNvSpPr/>
          <p:nvPr/>
        </p:nvSpPr>
        <p:spPr>
          <a:xfrm>
            <a:off x="3786120" y="2786040"/>
            <a:ext cx="1857600" cy="428760"/>
          </a:xfrm>
          <a:custGeom>
            <a:avLst/>
            <a:gdLst>
              <a:gd name="textAreaLeft" fmla="*/ 66960 w 1857600"/>
              <a:gd name="textAreaRight" fmla="*/ 1750680 w 185760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1857388" h="428628">
                <a:moveTo>
                  <a:pt x="0" y="107157"/>
                </a:moveTo>
                <a:lnTo>
                  <a:pt x="13395" y="107157"/>
                </a:lnTo>
                <a:lnTo>
                  <a:pt x="13395" y="321471"/>
                </a:lnTo>
                <a:lnTo>
                  <a:pt x="0" y="321471"/>
                </a:lnTo>
                <a:close/>
                <a:moveTo>
                  <a:pt x="26789" y="107157"/>
                </a:moveTo>
                <a:lnTo>
                  <a:pt x="53579" y="107157"/>
                </a:lnTo>
                <a:lnTo>
                  <a:pt x="53579" y="321471"/>
                </a:lnTo>
                <a:lnTo>
                  <a:pt x="26789" y="321471"/>
                </a:lnTo>
                <a:close/>
                <a:moveTo>
                  <a:pt x="66973" y="107157"/>
                </a:moveTo>
                <a:lnTo>
                  <a:pt x="1643074" y="107157"/>
                </a:lnTo>
                <a:lnTo>
                  <a:pt x="1643074" y="0"/>
                </a:lnTo>
                <a:lnTo>
                  <a:pt x="1857388" y="214314"/>
                </a:lnTo>
                <a:lnTo>
                  <a:pt x="1643074" y="428628"/>
                </a:lnTo>
                <a:lnTo>
                  <a:pt x="1643074" y="321471"/>
                </a:lnTo>
                <a:lnTo>
                  <a:pt x="66973" y="321471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8:25:10Z</dcterms:created>
  <dc:creator> </dc:creator>
  <dc:description/>
  <dc:language>en-US</dc:language>
  <cp:lastModifiedBy> </cp:lastModifiedBy>
  <dcterms:modified xsi:type="dcterms:W3CDTF">2010-04-21T11:32:00Z</dcterms:modified>
  <cp:revision>111</cp:revision>
  <dc:subject/>
  <dc:title>Slide 1</dc:title>
</cp:coreProperties>
</file>